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31C-0BEC-4866-8DC0-1C0375BD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EF4-054A-4E17-8B7A-06B06CCB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695-5252-461E-95CF-38443057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4A80-818E-402A-82BE-3D691CAC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DB00-8736-4191-B067-2FEDB016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15A8-F680-4F80-ABE6-DCF5776B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3298-0BE0-4799-8029-6783A81F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73C2-7616-4AC8-A852-7F43C310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B6C9-7B8A-4CBA-B1BE-379D7D07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55DB-1638-4AF5-80F1-FD83E5A8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ADD2-FA1C-444B-B590-816127CF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AC70-A896-4127-96C7-301DCE72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CC2D-2A84-4914-A255-3255E1D4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AB03-E953-4E94-AC63-026C1E75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AF54-3C62-4355-8515-261DB03F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0DE1-01A1-4336-B3F6-9EDCC0AE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7866-6647-4ACB-9910-0C0D139A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4F0-7F32-4FA5-8998-B9748EAC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66AC-BF37-4980-9B37-622405F1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76E-10C2-4902-A744-ECDA505F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052-9DEC-4914-884A-40B7226D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6E3-2033-4B60-9F2D-CD6A447E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739-F4A4-44D6-93ED-19E7474C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99F-2B99-44A1-A349-2757E911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72F5-6565-4CFA-BA17-38CF2749F84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3AE6-6968-4D98-96BF-26DE3076D08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rendlin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other Measure of Growth Rat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DOES THE DATA SHOW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wth rate and trend l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does the growth rate compare to students in the normed sample at the Well Below Proficient, Proficient, and Mean leve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does the trend line indicate that the student is going to achieve proficienc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ademic—Proficiency standa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havior—75 percent or 100 perc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s at Level III that approximate special 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end lines: How Do They Show Growth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e that you draw through a series of data points that represents the student’s actual rate of prog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trend line slope is flatter than the aimline, then adjust interv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trend line slope is steeper than the aimline then adjust goal or area of interv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slopes are the same make no ch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11386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end Line Procedures:  Can be done in Excel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 a horizontal line through median of first half of data – form an intersection with vertical 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 a horizontal line through median of second half of data – form an intersection with vertical 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nect the two interse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your decision, is it the same decis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end Lines and Entitlement Criter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d to determine how long it will be before the student’s skills are likely to be profici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quired for Behavior Entitl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used for Academics as wel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cademics, can add student’s current growth rate to the median of the last 3 data points to determine how many weeks it will take the student to meet proficiency standar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:  Short Term Intervention Need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 is in Grade 6 and is receiving intervention in reading flu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2/1/10, the median of the last 3 data points for the student is 13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tudent’s growth rate is 3 words per we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Proficient level score for Spring is 16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11 weeks, the student is likely to have reached proficiency on this prob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62 - 130 = 3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2/3= 1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:  Long-term Intervention Need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 is in Grade 4 and is receiving intervention in reading flu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3/1/10, the median of the last 3 data points for the student is 10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udent’s growth rate is 2 words/we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udent will need 19  weeks to become profici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62 - 105 = 5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6/2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  2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that time the student will be into the next school year and, possibly, in the next grade level with even more difficult reading passages to mas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:  Long-term Intervention Need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that time the student will be into the next school year and, possibly, in the next grade level with even more difficult reading passages to mas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DOES THE DATA SHOW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arison to peers, e.g. normative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the student above or below the Well Below Proficient, Proficient, or Mean performance of p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s the student met behavior goa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9:00:06Z</dcterms:created>
  <dc:creator>user</dc:creator>
  <dc:description/>
  <dc:language>en-US</dc:language>
  <cp:lastModifiedBy>Nancy Kreykenbohm</cp:lastModifiedBy>
  <dcterms:modified xsi:type="dcterms:W3CDTF">2010-09-13T17:37:50Z</dcterms:modified>
  <cp:revision>2</cp:revision>
  <dc:subject/>
  <dc:title>Trendlines</dc:title>
</cp:coreProperties>
</file>